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Артур" initials="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<Relationship Id="rId13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08-03-09T22:02:55.109000000" idx="1">
    <p:pos x="5721" y="624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A1E2-81C9-41C0-9C33-170511B7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4E7C-19CC-4242-9FDD-C959E9FF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7590-15F9-4DCE-83AE-A4F6A200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2E33-036C-4D17-9C02-2D69FB4A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C5E8-B322-4F3F-BA11-5E7A37372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297C-90B1-48A5-81CD-128231A8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2E9E-4B26-4FB7-9FFE-4D29F3C6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E31F-4DF4-4253-A904-766A1997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1665A-5EF0-4B8A-83AD-E37A44F72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DB65-AC95-408E-8A3A-093EA7BB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B2A1-6762-45DF-86CD-38517458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96D1-D259-47DC-94E5-6FE7D39D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E936-BA74-4ABC-AFB8-ECA885F6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8E5B0-9C63-4C2D-AF2D-C94EE7AA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0A7F-455F-445C-ADA8-1B7E5160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740AE-56DD-49C7-81DB-92A5F305C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D5D9-131E-4B0C-AB7F-35D9FF70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CD62-1221-4A78-8D32-1E5B618A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7FF4-647D-40E0-9362-A0CC384B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8D9A-9AD2-444A-A568-B13057A7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998C-CAB7-44CF-8D45-E354F3E9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9709-723E-49A8-AB71-824E7E49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CFC9-DF62-414E-9889-10D12A1C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2686-0347-458F-9A07-9E36D134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FDAB-99E0-4527-8274-ED1811E90AF6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1D63-8AB3-47D6-84C4-E61639FF4F4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762120"/>
            <a:ext cx="81532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">
              <a:avLst>
                <a:gd name="adj" fmla="val 3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>
                        <a:alpha val="68235"/>
                      </a:srgbClr>
                    </a:gs>
                    <a:gs pos="100000">
                      <a:srgbClr val="ff8200">
                        <a:alpha val="22352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ый закон термодинамики. </a:t>
            </a:r>
            <a:endParaRPr b="0" i="1" lang="en-US" sz="18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>
                      <a:alpha val="68235"/>
                    </a:srgbClr>
                  </a:gs>
                  <a:gs pos="100000">
                    <a:srgbClr val="ff8200">
                      <a:alpha val="22352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057400" y="4191120"/>
            <a:ext cx="5410080" cy="4038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805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ffff99">
                        <a:alpha val="16078"/>
                      </a:srgbClr>
                    </a:gs>
                  </a:gsLst>
                  <a:lin ang="5400000"/>
                </a:gradFill>
                <a:latin typeface="Arial"/>
              </a:rPr>
              <a:t>Презентация учителя МОУ «СОШ №6»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ffff99">
                      <a:alpha val="16078"/>
                    </a:srgbClr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ffff99">
                        <a:alpha val="16078"/>
                      </a:srgbClr>
                    </a:gs>
                  </a:gsLst>
                  <a:lin ang="5400000"/>
                </a:gradFill>
                <a:latin typeface="Arial"/>
              </a:rPr>
              <a:t>для учащихся 10-го класса</a:t>
            </a:r>
            <a:endParaRPr b="0" lang="en-US" sz="1800" spc="1" strike="noStrike">
              <a:ln w="9360">
                <a:solidFill>
                  <a:srgbClr val="8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ffff99">
                      <a:alpha val="16078"/>
                    </a:srgbClr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5442120"/>
            <a:ext cx="33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6699"/>
                </a:solidFill>
                <a:latin typeface="Verdana"/>
              </a:rPr>
              <a:t>Симонова А. М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99ff"/>
                </a:solidFill>
                <a:latin typeface="Verdana"/>
              </a:rPr>
              <a:t>Цель презентации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gradFill rotWithShape="0">
            <a:gsLst>
              <a:gs pos="0">
                <a:srgbClr val="990033"/>
              </a:gs>
              <a:gs pos="100000">
                <a:srgbClr val="e5a781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Применить физический закон к различным процессам  на основе имеющихся знаний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Работать над формированием сравнивать явления, делать выводы и обобщения;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-533520">
              <a:spcBef>
                <a:spcPts val="799"/>
              </a:spcBef>
              <a:buClr>
                <a:srgbClr val="00666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Грамотное изложение материала</a:t>
            </a:r>
            <a:r>
              <a:rPr b="0" i="1" lang="en-US" sz="3200" spc="-1" strike="noStrike">
                <a:solidFill>
                  <a:srgbClr val="006666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277920"/>
            <a:ext cx="80010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66"/>
                </a:solidFill>
                <a:latin typeface="Verdana"/>
              </a:rPr>
              <a:t>Закон сохранения и превращения энергии, распространённый на тепловые явления, называется </a:t>
            </a:r>
            <a:r>
              <a:rPr b="1" i="1" lang="en-US" sz="2400" spc="-1" strike="noStrike" u="sng">
                <a:solidFill>
                  <a:srgbClr val="006666"/>
                </a:solidFill>
                <a:uFillTx/>
                <a:latin typeface="Verdana"/>
              </a:rPr>
              <a:t>первым законом термодинамики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99720"/>
            <a:ext cx="82296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i="1" lang="ru-RU" sz="2000" spc="-1" strike="noStrike">
                <a:solidFill>
                  <a:srgbClr val="006699"/>
                </a:solidFill>
                <a:latin typeface="Verdana"/>
              </a:rPr>
              <a:t>Изменение внутренней энергии системы при переходе её из одного состояния в другое равно сумме работы внешних сил и количества теплоты, переданного системе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                          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∆</a:t>
            </a:r>
            <a:r>
              <a:rPr b="1" lang="en-US" sz="24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U=A+Q</a:t>
            </a:r>
            <a:r>
              <a:rPr b="1" lang="ru-RU" sz="24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  <a:ea typeface="Arial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Если система замкнута работа внешней сил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                            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А=0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теплообмен с окружающими телами не происходит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                            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Q=0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,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внутренняя энергия изолированной системы сохраняется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                         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U</a:t>
            </a:r>
            <a:r>
              <a:rPr b="1" lang="en-US" sz="900" spc="-1" strike="noStrike">
                <a:solidFill>
                  <a:srgbClr val="006699"/>
                </a:solidFill>
                <a:latin typeface="Verdana"/>
                <a:ea typeface="Arial"/>
              </a:rPr>
              <a:t>1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=U</a:t>
            </a:r>
            <a:r>
              <a:rPr b="1" lang="en-US" sz="1000" spc="-1" strike="noStrike">
                <a:solidFill>
                  <a:srgbClr val="006699"/>
                </a:solidFill>
                <a:latin typeface="Verdana"/>
                <a:ea typeface="Arial"/>
              </a:rPr>
              <a:t>2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700"/>
                            </p:stCondLst>
                            <p:childTnLst>
                              <p:par>
                                <p:cTn id="5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700"/>
                            </p:stCondLst>
                            <p:childTnLst>
                              <p:par>
                                <p:cTn id="6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8700"/>
                            </p:stCondLst>
                            <p:childTnLst>
                              <p:par>
                                <p:cTn id="7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700"/>
                            </p:stCondLst>
                            <p:childTnLst>
                              <p:par>
                                <p:cTn id="7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700"/>
                            </p:stCondLst>
                            <p:childTnLst>
                              <p:par>
                                <p:cTn id="8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4700"/>
                            </p:stCondLst>
                            <p:childTnLst>
                              <p:par>
                                <p:cTn id="9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700"/>
                            </p:stCondLst>
                            <p:childTnLst>
                              <p:par>
                                <p:cTn id="103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8700"/>
                            </p:stCondLst>
                            <p:childTnLst>
                              <p:par>
                                <p:cTn id="11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6666"/>
                </a:solidFill>
                <a:latin typeface="Verdana"/>
              </a:rPr>
              <a:t>Если учитывать различие только в знаках между работой внешней и внутренней сил    </a:t>
            </a:r>
            <a:r>
              <a:rPr b="1" lang="ru-RU" sz="2700" spc="-1" strike="noStrike">
                <a:solidFill>
                  <a:srgbClr val="006666"/>
                </a:solidFill>
                <a:latin typeface="Verdana"/>
              </a:rPr>
              <a:t>А=-А</a:t>
            </a:r>
            <a:r>
              <a:rPr b="1" lang="en-US" sz="2700" spc="-1" strike="noStrike">
                <a:solidFill>
                  <a:srgbClr val="006666"/>
                </a:solidFill>
                <a:latin typeface="Verdana"/>
              </a:rPr>
              <a:t>`</a:t>
            </a:r>
            <a:r>
              <a:rPr b="1" lang="ru-RU" sz="2700" spc="-1" strike="noStrike">
                <a:solidFill>
                  <a:srgbClr val="006666"/>
                </a:solidFill>
                <a:latin typeface="Verdana"/>
              </a:rPr>
              <a:t>,</a:t>
            </a:r>
            <a:endParaRPr b="0" lang="en-US" sz="27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п</a:t>
            </a: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олучим первый закон термодинамики в другом виде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3600" spc="-1" strike="noStrike" u="sng">
                <a:solidFill>
                  <a:srgbClr val="006699"/>
                </a:solidFill>
                <a:uFillTx/>
                <a:latin typeface="Verdana"/>
              </a:rPr>
              <a:t>Q=</a:t>
            </a:r>
            <a:r>
              <a:rPr b="1" lang="en-US" sz="3600" spc="-1" strike="noStrike" u="sng">
                <a:solidFill>
                  <a:srgbClr val="006699"/>
                </a:solidFill>
                <a:uFillTx/>
                <a:latin typeface="Verdana"/>
                <a:ea typeface="Arial"/>
              </a:rPr>
              <a:t>∆U+A`.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  <a:ea typeface="Arial"/>
              </a:rPr>
              <a:t>Количество теплоты, переданное системе, идёт на изменение её внутренней энергии и на совершение системой работы над внешними силами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  <a:ea typeface="Arial"/>
              </a:rPr>
              <a:t>Из первого закона термодинамики вытекает важное следстви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500" autoRev="1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2" dur="500" autoRev="1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" dur="500" autoRev="1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609120"/>
            <a:ext cx="82440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Невозможность вечного двигателя!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499840"/>
            <a:ext cx="8229600" cy="33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Вечный двигатель—устройство, способное совершать неограниченное количество работы без затрат топлива или каких-либо других материалов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Если к системе не поступает теплота (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Q=0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)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то работа совершается только за счёт убыли внутренней энергии: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A`=-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  <a:ea typeface="Arial"/>
              </a:rPr>
              <a:t>∆U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После того как запас энергии окажется исчерпанным , двигатель перестанет работать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9000"/>
                            </p:stCondLst>
                            <p:childTnLst>
                              <p:par>
                                <p:cTn id="1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3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Verdana"/>
              </a:rPr>
              <a:t>Первый закон термодинамики можно применить к газовым законам</a:t>
            </a:r>
            <a:endParaRPr b="0" lang="en-US" sz="3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0066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При изохорном процессе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V=const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поэтому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A`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=0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Тогда изменение внутренней энергии равно количеству теплоты, переданной систем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        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  <a:ea typeface="Arial"/>
              </a:rPr>
              <a:t>∆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  <a:ea typeface="Arial"/>
              </a:rPr>
              <a:t>U=Q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  <a:ea typeface="Arial"/>
              </a:rPr>
              <a:t>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Если газ нагревается , то его внутренняя энергия увеличивается, а при охлаждении газа—уменьшается 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2.     При изобарном процессе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p=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const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и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              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Q=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  <a:ea typeface="Arial"/>
              </a:rPr>
              <a:t>∆U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+A`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  <a:ea typeface="Arial"/>
              </a:rPr>
              <a:t>    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 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  <a:ea typeface="Arial"/>
              </a:rPr>
              <a:t>Переданное газу количество теплоты идёт на изменение его внутренней энергии и  на совершение им работы при постоянном давлении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000"/>
                            </p:stCondLst>
                            <p:childTnLst>
                              <p:par>
                                <p:cTn id="21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5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3.При изотермическом процессе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Т=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const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внутренняя           энергия газа не меняется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U=0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, переданное газу количество теплоты идёт на совершение работы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         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Q=A`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4.При адиабатном процессе, когда система не обменивается теплотой с окружающей средой, 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Q=0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, изменение внутренней энергии происходит только за счёт совершения работы:</a:t>
            </a: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006699"/>
                </a:solidFill>
                <a:latin typeface="Verdana"/>
              </a:rPr>
              <a:t>∆</a:t>
            </a: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U=A`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                                                    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1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1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1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Verdana"/>
              </a:rPr>
              <a:t>Почему внутренняя энергия тела не бесконечна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Verdana"/>
              </a:rPr>
              <a:t>Как меняется температура тела при адиабатном расширении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33"/>
                </a:solidFill>
                <a:latin typeface="Verdana"/>
              </a:rPr>
              <a:t>Для получения газированной воды через воду пропускают сжатый углекислый газ. Почему температура воды при этом понижается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28600" y="304920"/>
            <a:ext cx="8534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опросы на проверку знаний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0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2" dur="5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ртур</cp:lastModifiedBy>
  <dcterms:modified xsi:type="dcterms:W3CDTF">2008-02-05T18:12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